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54F-1A69-4966-8701-32F2CF92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E15-71C3-41C1-B4C1-1EFA4CB3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043-EBBF-442F-9AC4-B91F584E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AFE-BE3F-4F44-8B9F-F175AF2E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84F-FC5D-474F-B991-AFCB86A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77B-FE54-469E-8C1F-F50C3CB9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E91-2D25-4DEB-BD75-B4417101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776-7B88-4C59-BFAB-63995FA2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993-0B3F-48F9-9DD2-75252F49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908-9674-47D7-A5E6-C2ED3BD4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EAD-7451-40B6-910B-AE124537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30C-464A-42A5-98CC-69092F1A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4527-B980-45FD-A1B4-BF29CC99E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hool-wires.wikispaces.com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pload any type of assignment on this pag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return to the wik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“New Pag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6320" y="197640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0080" y="3198960"/>
            <a:ext cx="98748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“Assignment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4191120"/>
            <a:ext cx="152424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your page, then click “Save”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omework, Classwork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4191120"/>
            <a:ext cx="12193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lect your page from your page 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487692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4800600"/>
            <a:ext cx="16002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“New Assignmen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3276720"/>
            <a:ext cx="1981440" cy="5331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assignment, then type the assignment into the text 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4191120"/>
            <a:ext cx="1066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5562720"/>
            <a:ext cx="28954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 the “Date Assigned” &amp; the “Due Date”, add the assignment to your calendar, then click “Sa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4724280"/>
            <a:ext cx="1524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029200"/>
            <a:ext cx="144792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5334120"/>
            <a:ext cx="838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5943600"/>
            <a:ext cx="60984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“Home” to return to your page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76320" y="1981080"/>
            <a:ext cx="9220320" cy="488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00200" y="3048120"/>
            <a:ext cx="609480" cy="30456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1:19:38Z</dcterms:created>
  <dc:creator>%$#@1</dc:creator>
  <dc:description/>
  <dc:language>en-US</dc:language>
  <cp:lastModifiedBy>%$#@1</cp:lastModifiedBy>
  <dcterms:modified xsi:type="dcterms:W3CDTF">2010-04-27T01:19:41Z</dcterms:modified>
  <cp:revision>1</cp:revision>
  <dc:subject/>
  <dc:title>Assignment Page</dc:title>
</cp:coreProperties>
</file>